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6B71-E847-4440-B870-E5F1F8775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an idea – we can choose any design or th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2C37-A83A-4F33-8534-7036A4857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FBDD-0490-48AE-B702-F725EE391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3A50-05C0-4B5E-9D6F-205CC98BB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DE2E-C750-4546-AF99-5CA7C2325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7ABE-C52C-43AD-8E12-9698F8C2A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D79E-BB4D-41ED-959B-B36DBC7A0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8171-CE40-4C99-AD0E-AB0062BE2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E220-AB2D-4853-9DF3-4EAEAEA18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8549-06A2-42BE-8B23-0B6D3E66F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don’t know if we want to use this, but I thought it looked cool and it has a lot of good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7C0A-0C52-449D-B7F8-F1A3BC36C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F993-E1C0-44ED-8E8A-D5D54BC24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D189-2BDB-4FF0-BDBD-C7BD842EA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82A-EC26-4E63-BFDE-C6694EDF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62D-E89F-4B2E-AC91-9F4E391F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B25-E0C5-4953-A8AA-1993885F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7A6-3BC5-4992-B47E-68D1750C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B48D-9C9E-4D54-A5B9-A177AAE7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79CF-C22F-478C-AEC5-8EB69CA7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D6A8-FDCB-45A3-A6F6-1C22C4AF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0374-5D6D-4972-ACC2-28330DDB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8ED9-D440-44B1-A94D-74A5527E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179B-DBA1-41F7-A0ED-4D7A3CBC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7009-4ACE-4492-BC60-B0BDB202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B96-DC6A-47DB-BBB6-6F0904EC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344D-B5D0-4814-A6AA-BFA83D7A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A966-421A-4703-820B-60AA9760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A0DD-671C-4E44-AC78-A8A4F07B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5992-167C-47B4-9063-F7F47BDD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BC32-6105-41A2-AFF3-14E9E960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29FF6-D9FE-461B-A694-1F0E18CE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FF8E3-115E-4181-8AFB-19D8481D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3435A-0521-49AB-B8E4-6BDC8A5E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7C39D-85AD-4E97-987B-827FCDA4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EC7B8-468C-4077-A365-857AA06C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DD7-6124-4F53-8CFE-6220E76F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8CF77-E66C-4DDB-8C54-E708E066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29AF1-554D-4E5E-8DEE-5280FC09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76A51-6DFD-4290-9FD4-170B7093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24D07-E5BF-45C7-B29B-142065B4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64E3C-1FB8-4726-9087-EA0AB5AF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090A6-A63E-4023-BFAF-1CFD043D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4F88D-ACA6-4738-852F-E95FC028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CFD26E-5ED3-49A4-AB76-5FC3224E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4AB679-22CE-40A5-B018-49935D23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8F7456-5BD7-438E-B78C-1B4A9EBC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FCA-1443-4C4C-B89F-164B62B4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3A804C-4F19-4422-BC41-50E330EF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0D50B5-7C95-4654-BB28-E241D356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5F02C-C5B4-49A8-8AF6-27DFEA51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A3E87-D249-4033-A4E0-03C1621E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E2C62E-1607-4622-9B81-82EBAA02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CA5807-F4E7-45B2-9F8B-8584BE43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1D549-4DE9-4A2B-97BD-98F8EC83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C741FF-6ACC-469C-9A42-34F030D0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A17C42-9C5C-4368-ADCF-0D60BBAE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0CE17-FFE2-4B47-8C2E-CD9B9CD7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97D-61B1-442A-8FC4-19E726BD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8377A-EADF-4C07-940F-277ED57E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E534B-C28A-4F89-91AA-3C6019D6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4AE90-4452-42F0-8792-D316DEFD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24C55-CEFA-4AF3-94E5-01755BE7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C5E78-8E83-490B-AB40-F36C05EF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AC00D-1DC7-4D60-AA9F-578BDEA1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411B2-6B24-41BD-9C96-B206CE52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5ACBE-CDC1-44FF-ADFA-3155698C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4451D-FEC9-401A-A624-21CCBBF7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825E4-1B4A-4F2A-8C2B-E3C05F19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28A-962D-450B-9D5D-8323F74A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4F59E-2A9E-4914-827F-52AB1C1D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BB30E-3239-487D-A175-D7FC8D53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BE07E-3961-4873-8EB8-A9C50D0C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DF278-BD41-4AF0-BDA2-4DEA07D3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9B426-5CF5-42BC-8170-04C67350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3D378-2B4B-4E73-8A3B-BDD2EA8D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CF2C1-28E2-4BAE-834F-520B89B9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024BE-55E9-4AFB-BF58-DD64BE51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6F8A3-747F-4D66-8FC3-19F0FBDB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8783F-BE14-4E07-93C7-BA4A1FEA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B3A-FD6A-4EA8-8188-A568795D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079AC-54E6-46BE-8EFA-5D31CE2E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D474C-166D-427C-81E0-ECC241C9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F8994-C066-4E32-B276-05EC269F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C27101-4DB7-4A3A-B83D-72B6CA34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8CC26A-FF00-4970-B183-E65D3F84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9AC118-E66A-40A0-8B76-C885A165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BE7D46-71FB-4832-B4B1-7154C024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2F354C-22C5-4B9A-A7E3-0E8B83DA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1090FD-90D5-4FD0-8CD8-23C43A13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5BAA0-6079-400E-AA83-F5E292C2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603-0672-42E4-9911-CCEFA425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DFB252-95C4-4425-89E5-FCADE84E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6A518-115D-45F6-BED8-AB92BAC2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D787B-332F-459D-AAB5-D4FED566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86C2B-5398-47FC-92AF-B29DE808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3B2B1-7FED-4811-9734-541C2206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60A8C-9247-4466-A3A1-41260B24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06388-A668-4405-B53E-6F53913B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2C062-6FD0-4A7C-AA74-1535CD84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07516-5136-4B32-B61D-7EDF5471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2B35D-C205-4A8D-8E87-D95D4128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B4A-1B15-4B60-A07B-67BE5188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3B4CC-0B97-4A49-B6BF-23080B61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3327C-1CE4-4F73-BBCD-069B79B6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19035-7277-4750-AFB1-34B539F0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6A218-D1DB-4CEF-863D-BE0DEC8E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2FCC8-3684-40D7-A373-56E61F2E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0C5EC-BC8A-4A84-8D79-B9E7AE08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5E876-6B5C-4A6C-97E3-755FD081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2700-6FB1-4702-BE0E-70215BF0FF6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AEE5-7E2C-413D-AD0C-5331A2E761F2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916C-3652-478D-A2A0-70AF00BF8C70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7FD9-7D72-4DC7-A573-198296AF0A6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7B42-BEB7-42D3-8FC8-B8E32D2DFDA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9533-C6DF-4A2E-BBAD-7E901CEF1425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A336-8005-4C3E-9372-263C6EE0C551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2CE7-B177-436E-8B5F-EFCB1EBB517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ephenslighthouse.sirsidynix.com/archives/2009/02/measuring_libra.html" TargetMode="External"/><Relationship Id="rId2" Type="http://schemas.openxmlformats.org/officeDocument/2006/relationships/hyperlink" Target="http://stephenslighthouse.sirsidynix.com/archives/2009/02/measuring_libra.html" TargetMode="External"/><Relationship Id="rId3" Type="http://schemas.openxmlformats.org/officeDocument/2006/relationships/hyperlink" Target="http://stephenslighthouse.sirsidynix.com/archives/2009/02/measuring_libra.html" TargetMode="External"/><Relationship Id="rId4" Type="http://schemas.openxmlformats.org/officeDocument/2006/relationships/hyperlink" Target="http://stephenslighthouse.sirsidynix.com/archives/2009/02/measuring_libra.html" TargetMode="External"/><Relationship Id="rId5" Type="http://schemas.openxmlformats.org/officeDocument/2006/relationships/hyperlink" Target="http://stephenslighthouse.sirsidynix.com/archives/2009/02/measuring_libra.html" TargetMode="External"/><Relationship Id="rId6" Type="http://schemas.openxmlformats.org/officeDocument/2006/relationships/hyperlink" Target="http://www.libraryjournal.com/article/CA6625166.html" TargetMode="External"/><Relationship Id="rId7" Type="http://schemas.openxmlformats.org/officeDocument/2006/relationships/hyperlink" Target="http://www.libraryjournal.com/article/CA6625166.html" TargetMode="External"/><Relationship Id="rId8" Type="http://schemas.openxmlformats.org/officeDocument/2006/relationships/hyperlink" Target="http://www.libraryjournal.com/article/CA6625166.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SIRSI DYNIX SYMPHON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e library automation system we need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Notable Features:</a:t>
            </a:r>
            <a:br>
              <a:rPr sz="4400"/>
            </a:b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ChiliFres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iliFresh Review Engine: a complete social network embedded directly in a library's catalog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mbed patron-written book reviews directly into catalog recor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corporate a number of social networking features such as: profiles, content lists, chat and messaging options, and forums for book discussio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Users will utilize these features from The Bookshelf and will be able to gather and make reviews on favorite work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Recommendations and suggestions from friends and other users with related interests can be accessed from The Bookshelf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Notable Features:</a:t>
            </a:r>
            <a:br>
              <a:rPr sz="4400"/>
            </a:b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InfOhio (SchoolRoom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e statewide library network in Ohio, INFOhio, and SirsiDynix launched a new learning site with an assortment of resourc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 of these resources are available from one single port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choolRooms has 70 rooms full of educational material where students can find information on almost any topic they are looking for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eachers, students, and even parents have access to these room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very INFOhio automated school has access to this port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4120" y="1600200"/>
            <a:ext cx="815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1040" indent="-311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11040" indent="-311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bram, S. (2009, February 23)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Measuring libraries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tephen's Lighthouse [Blog]. Retrieved July 2, 2009 from </a:t>
            </a:r>
            <a:r>
              <a:rPr b="0" lang="en-US" sz="15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http:</a:t>
            </a:r>
            <a:r>
              <a:rPr b="0" lang="en-US" sz="15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//stephenslighthouse</a:t>
            </a:r>
            <a:r>
              <a:rPr b="0" lang="en-US" sz="1500" spc="-1" strike="noStrike" u="sng">
                <a:solidFill>
                  <a:srgbClr val="f7b615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500" spc="-1" strike="noStrike" u="sng">
                <a:solidFill>
                  <a:srgbClr val="f7b615"/>
                </a:solidFill>
                <a:uFillTx/>
                <a:latin typeface="Arial"/>
                <a:hlinkClick r:id="rId4"/>
              </a:rPr>
              <a:t>sirsidynix</a:t>
            </a:r>
            <a:r>
              <a:rPr b="0" lang="en-US" sz="1500" spc="-1" strike="noStrike" u="sng">
                <a:solidFill>
                  <a:srgbClr val="f7b615"/>
                </a:solidFill>
                <a:uFillTx/>
                <a:latin typeface="Arial"/>
                <a:hlinkClick r:id="rId5"/>
              </a:rPr>
              <a:t>.com/archives/2009/02/measuring_libra.html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dro, J. (2009, January). SirsiDynix Adds Chilifresh Engine. Library Journal, 2009 (issue 1). Retrieved June 30, 2009, from </a:t>
            </a:r>
            <a:r>
              <a:rPr b="0" lang="en-US" sz="1500" spc="-1" strike="noStrike" u="sng">
                <a:solidFill>
                  <a:srgbClr val="f7b615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1500" spc="-1" strike="noStrike" u="sng">
                <a:solidFill>
                  <a:srgbClr val="f7b615"/>
                </a:solidFill>
                <a:uFillTx/>
                <a:latin typeface="Arial"/>
                <a:hlinkClick r:id="rId7"/>
              </a:rPr>
              <a:t>libraryjournal</a:t>
            </a:r>
            <a:r>
              <a:rPr b="0" lang="en-US" sz="1500" spc="-1" strike="noStrike" u="sng">
                <a:solidFill>
                  <a:srgbClr val="f7b615"/>
                </a:solidFill>
                <a:uFillTx/>
                <a:latin typeface="Arial"/>
                <a:hlinkClick r:id="rId8"/>
              </a:rPr>
              <a:t>.com/article/CA6625166.html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dro, J. (2008, October 15)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Director's station for usage sta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 Library Journal. Retrieved July 2, 2009, from http://www.libraryjournal.com/article/CA6602837.html?industryid=47125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dro, J. (2008, November 1). Updates emerge from SirsiDynix. Library Journal. Retrieved July 2, 2009 from http://www.libraryjournal.com/article/CA6606474.html?industryid=47125 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rsiDynix. (2007, June 23)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rsiDynix introduces SirsiDynix Symphony as new integrated library system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Retrieved July 2, 2009, from Library Technology Guides: http://www.librarytechnology.org/ltg-displayarticle.pl?RC=12619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rsiDynix (2008, December 2). SirsiDynix StaffWeb brochure. Retrieved July 6, 2009, from www.sirsidynix.com/Resources/Pdfs/Solutions/Products/StaffWeb.pdf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talog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rsiDynix StaffWeb has cataloging abilities that support library staff in maintaining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tle and copy reco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or maintain title, copy, and MARC record information for a tit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ws for cataloging reports for lost or missing reports, reading programs, and shelf lis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65680" y="1600200"/>
            <a:ext cx="400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PocketCirc is a wireless handheld device that allows library staff to: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onduct daily circulation procedures 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nventory projects both online and offlin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 without having to be at a desktop worksta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Text Placeholder 12" descr=""/>
          <p:cNvPicPr/>
          <p:nvPr/>
        </p:nvPicPr>
        <p:blipFill>
          <a:blip r:embed="rId1"/>
          <a:srcRect l="619799" t="233557" r="0" b="386913"/>
          <a:stretch/>
        </p:blipFill>
        <p:spPr>
          <a:xfrm>
            <a:off x="380880" y="2057400"/>
            <a:ext cx="41911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irc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StaffWeb has circulation abilities to support library staff in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hecking copies in and ou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creening the status of copi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Placing hol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Maintaining and screening patron accoun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dding short title record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s for the following circulation reports: copies on loan, copies on hold, copy status, copies in transit, fine list, and overdue lis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ly effective decision making too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bility to customize the reports to fit our nee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program comes with more than 600 standard reports and utiliti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port Capabili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lection analys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termine if the library holdings support the curriculum of the schoo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eriodically determine the age of the colle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erials collection evalu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quisitions budg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at any point in time the state of the budget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ircu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etermine usage of the collection, including overall numbers and statistics for particular subject area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44360" y="152280"/>
            <a:ext cx="8825040" cy="65296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9"/>
          <p:cNvSpPr/>
          <p:nvPr/>
        </p:nvSpPr>
        <p:spPr>
          <a:xfrm>
            <a:off x="1143000" y="648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sirsidynix.com/Solutions/Products/integratedsystems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tr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rsiDynix Symphony with the assistance of the PocketCirc benefits out patrons by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ing new users to be registered on the spo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ontinue helping patrons when network problems or power outages occur -- Circulation tasks can be completed in offline mode and uploaded at a later tim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llows patrons to be assisted in finding materials and then receive on-the-spot checkou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ana Shared Catalo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s a SirsiDynix syst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b bas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re than 80 libraries in Montana particip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ublic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choo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cademic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dica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pecial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9:46:36Z</dcterms:created>
  <dc:creator>lisa brennan</dc:creator>
  <dc:description/>
  <dc:language>en-US</dc:language>
  <cp:lastModifiedBy>Jamie Fleming</cp:lastModifiedBy>
  <dcterms:modified xsi:type="dcterms:W3CDTF">2009-07-09T03:57:34Z</dcterms:modified>
  <cp:revision>14</cp:revision>
  <dc:subject/>
  <dc:title>Slide 1</dc:title>
</cp:coreProperties>
</file>